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7D9-6CFB-4A48-B780-B551058F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435-3BB0-410F-9215-F19755A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014-2815-4812-A9F5-D73C6FD7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15A-C0B3-4F5D-910F-C0C18C9C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28B-5870-416C-91CF-F978FC86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EE5-0C5A-467D-AAC2-11592F7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383-136A-43B9-8E2F-3DF4F2C5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B04-B947-4142-9ED1-BFE43E62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9BF-52C7-4105-B1C4-7268ABA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0D1-FB25-4AC6-854F-139B562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421-7A53-4758-907A-7F2F5A7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AF6-669C-4670-968F-E313272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0F7-8223-4B87-9406-2A5D5B5E729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244800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402920" y="1197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105264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76500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916280"/>
            <a:ext cx="1873080" cy="158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quando le pers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un paese se ne van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ll’esterno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989000"/>
            <a:ext cx="273528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 chiama IM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rrivano str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189000"/>
            <a:ext cx="1728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e persone vann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vivere 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aese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56360" y="333000"/>
            <a:ext cx="1224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836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0360" y="189000"/>
            <a:ext cx="1512720" cy="50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rov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981000"/>
            <a:ext cx="107928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tua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guer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3068640"/>
            <a:ext cx="71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3500280"/>
            <a:ext cx="1008000" cy="151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mmigr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501336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5805360"/>
            <a:ext cx="172692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frica/Alb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24000" y="4724280"/>
            <a:ext cx="100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5734080"/>
            <a:ext cx="136872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uro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005360"/>
            <a:ext cx="194472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migranti in mol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aesi e, anch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eno di una volta,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no anche ogg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486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581360"/>
            <a:ext cx="15130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ete principal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10920" y="508464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47640" y="508464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5084640"/>
            <a:ext cx="14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877000"/>
            <a:ext cx="93492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805360"/>
            <a:ext cx="792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a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urop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4:57Z</dcterms:created>
  <dc:creator>studente</dc:creator>
  <dc:description/>
  <dc:language>en-US</dc:language>
  <cp:lastModifiedBy>s</cp:lastModifiedBy>
  <dcterms:modified xsi:type="dcterms:W3CDTF">2017-02-13T09:05:16Z</dcterms:modified>
  <cp:revision>6</cp:revision>
  <dc:subject/>
  <dc:title>Diapositiva 1</dc:title>
</cp:coreProperties>
</file>